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5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6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A21E-B38C-4CBB-A8B9-5529C64F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24D4-205C-4074-BA2F-390BC4C9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17D6-BEE6-45A2-B007-48977270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EEA-3B57-4A28-989A-6383BD5F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4FC0-5DE2-415F-9EED-DD4C3B63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23D8-070A-4893-BD50-0EA6D416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3BC0-ADCD-44DC-B0BF-0ED1425F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1BEC-112B-4393-8E53-E849CC8C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DF1C-7124-41DF-8654-8558FDCE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CC96-8BBD-48FA-A35D-4785E078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CECE-5FFF-4DFF-86DF-AF2289B9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FA9C-A348-4E4F-98E7-528E3C6A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E5AE-482E-40C4-8772-A335CFBE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6DB0-1110-4C3E-B172-15590EB0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92BE-E298-4B7F-A4EC-34F74332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6C8C-6BEC-42DF-B079-710DEC3E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42B2-68FC-4EEA-86BD-9BD6783E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F4D4-D456-4BF2-8B57-65A1653C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490C-0060-4900-84B0-79C3B6ED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8618-BF42-43D4-AF7D-F4A23AB5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2FE8-A1CE-4E95-874F-0D75918E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F90A-0969-41CF-8DCE-6CCF6411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AD5C-C5B4-43AC-9C36-72B75EC2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B3C2-A39B-4F71-B9DE-136AC870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9A0B-2142-4D1D-B680-DA560D6ED05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8B27-12B6-4DE1-AF02-7B144BA9519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7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5.png"/><Relationship Id="rId3" Type="http://schemas.openxmlformats.org/officeDocument/2006/relationships/slide" Target="slide11.xml"/><Relationship Id="rId4" Type="http://schemas.openxmlformats.org/officeDocument/2006/relationships/image" Target="../media/image6.jpeg"/><Relationship Id="rId5" Type="http://schemas.openxmlformats.org/officeDocument/2006/relationships/slide" Target="slide14.xm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8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6633"/>
                </a:solidFill>
                <a:latin typeface="Garamond"/>
              </a:rPr>
              <a:t>Генетические закономерности, открытые Г. Менделем. Моногибридное и дигибридное скрещивание. Взаимодействие генов.11 класс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зентацию выполнила учитель биологии  НОУ гимназии «Школа бизнеса» Якушина Людмила Генн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Карточка №1 Комплементарное взаимодействие генов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арточка №1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Неалле́льные ге́ны — 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это гены, расположенные в различных участках хромосом и кодирующие неодинаковые белки. 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еаллельные гены также могут взаимодействовать между со­бой.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этом либо один ген обусловливает развитие нескольких признаков, либо, наоборот, один признак проявляется под действием совокупности нескольких генов.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Комплемента́рность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дополнительное действие генов) — это вид взаимодействия неаллельных генов, доминантные аллели кото­рых при совместном сочетании обусловливают новое  проявление признако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Расщепление гибридов  по фенотипу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 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9:6:1, 9:3:4, 9:7,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ногда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9:3:3:1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акое расщепление по фенотипу может наблюдаться у плодов тыкв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&amp;Kcy;&amp;acy;&amp;rcy;&amp;tcy;&amp;icy;&amp;ncy;&amp;kcy;&amp;acy; &amp;scy;&amp;pcy;&amp;rcy;&amp;acy;&amp;vcy;&amp;acy; &amp;icy;&amp;lcy;&amp;icy; &amp;scy;&amp;lcy;&amp;iecy;&amp;vcy;&amp;acy; &amp;ocy;&amp;tcy; &amp;tcy;&amp;iecy;&amp;kcy;&amp;scy;&amp;tcy;&amp;acy;&amp;IEcy;&amp;scy;&amp;lcy;&amp;icy; &amp;vcy;&amp;ycy; &amp;khcy;&amp;ocy;&amp;tcy;&amp;icy;.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7080" y="5048280"/>
            <a:ext cx="9129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Arial"/>
              </a:rPr>
              <a:t>Карточка №2. Полимерное взаимодействие генов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7632720" cy="482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&amp;Kcy;&amp;acy;&amp;rcy;&amp;tcy;&amp;icy;&amp;ncy;&amp;kcy;&amp;acy; &amp;scy;&amp;pcy;&amp;rcy;&amp;acy;&amp;vcy;&amp;acy; &amp;icy;&amp;lcy;&amp;icy; &amp;scy;&amp;lcy;&amp;iecy;&amp;vcy;&amp;acy; &amp;ocy;&amp;tcy; &amp;tcy;&amp;iecy;&amp;kcy;&amp;scy;&amp;tcy;&amp;acy;&amp;IEcy;&amp;scy;&amp;lcy;&amp;icy; &amp;vcy;&amp;ycy; &amp;khcy;&amp;ocy;&amp;tcy;&amp;icy;."/>
          <p:cNvPicPr/>
          <p:nvPr/>
        </p:nvPicPr>
        <p:blipFill>
          <a:blip r:embed="rId2"/>
          <a:stretch/>
        </p:blipFill>
        <p:spPr>
          <a:xfrm>
            <a:off x="7777080" y="5048280"/>
            <a:ext cx="9129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C:\Users\Public\Pictures\Sample Pictures\w-crop-644x416.jpg"/>
          <p:cNvPicPr/>
          <p:nvPr/>
        </p:nvPicPr>
        <p:blipFill>
          <a:blip r:embed="rId1"/>
          <a:stretch/>
        </p:blipFill>
        <p:spPr>
          <a:xfrm>
            <a:off x="324000" y="1628640"/>
            <a:ext cx="3024000" cy="1952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395280" y="3716280"/>
            <a:ext cx="8513640" cy="2421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539640" y="404640"/>
            <a:ext cx="620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Карточка №1 Полимерное взаимодействие ге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C:\Users\Учитель\Pictures\__5838172_orig.jpg"/>
          <p:cNvPicPr/>
          <p:nvPr/>
        </p:nvPicPr>
        <p:blipFill>
          <a:blip r:embed="rId3"/>
          <a:stretch/>
        </p:blipFill>
        <p:spPr>
          <a:xfrm>
            <a:off x="3419640" y="1700280"/>
            <a:ext cx="2759040" cy="1841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C:\Users\Public\Pictures\Sample Pictures\193711411.jpg"/>
          <p:cNvPicPr/>
          <p:nvPr/>
        </p:nvPicPr>
        <p:blipFill>
          <a:blip r:embed="rId4"/>
          <a:stretch/>
        </p:blipFill>
        <p:spPr>
          <a:xfrm>
            <a:off x="6227640" y="1700280"/>
            <a:ext cx="2614680" cy="1868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&amp;Kcy;&amp;acy;&amp;rcy;&amp;tcy;&amp;icy;&amp;ncy;&amp;kcy;&amp;acy; &amp;scy;&amp;pcy;&amp;rcy;&amp;acy;&amp;vcy;&amp;acy; &amp;icy;&amp;lcy;&amp;icy; &amp;scy;&amp;lcy;&amp;iecy;&amp;vcy;&amp;acy; &amp;ocy;&amp;tcy; &amp;tcy;&amp;iecy;&amp;kcy;&amp;scy;&amp;tcy;&amp;acy;&amp;IEcy;&amp;scy;&amp;lcy;&amp;icy; &amp;vcy;&amp;ycy; &amp;khcy;&amp;ocy;&amp;tcy;&amp;icy;."/>
          <p:cNvPicPr/>
          <p:nvPr/>
        </p:nvPicPr>
        <p:blipFill>
          <a:blip r:embed="rId5"/>
          <a:stretch/>
        </p:blipFill>
        <p:spPr>
          <a:xfrm>
            <a:off x="7740720" y="260280"/>
            <a:ext cx="9126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Карточка №1 Полимерное взаимодействие генов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-468360" y="1700280"/>
            <a:ext cx="10314000" cy="2950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900000" y="4724280"/>
            <a:ext cx="7344000" cy="1224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&amp;Kcy;&amp;acy;&amp;rcy;&amp;tcy;&amp;icy;&amp;ncy;&amp;kcy;&amp;acy; &amp;scy;&amp;pcy;&amp;rcy;&amp;acy;&amp;vcy;&amp;acy; &amp;icy;&amp;lcy;&amp;icy; &amp;scy;&amp;lcy;&amp;iecy;&amp;vcy;&amp;acy; &amp;ocy;&amp;tcy; &amp;tcy;&amp;iecy;&amp;kcy;&amp;scy;&amp;tcy;&amp;acy;&amp;IEcy;&amp;scy;&amp;lcy;&amp;icy; &amp;vcy;&amp;ycy; &amp;khcy;&amp;ocy;&amp;tcy;&amp;icy;."/>
          <p:cNvPicPr/>
          <p:nvPr/>
        </p:nvPicPr>
        <p:blipFill>
          <a:blip r:embed="rId3"/>
          <a:stretch/>
        </p:blipFill>
        <p:spPr>
          <a:xfrm>
            <a:off x="7740720" y="260280"/>
            <a:ext cx="9126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арточка №3: Эпистаз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арточка №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Эписта́з —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заимодействие неаллельных генов, при котором один из них подавляется другим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авляющий ген называется эпистатичным (супресором), подавляемый — гипостатичным. Эпистаз может быть доминантным и рецессивны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доминантном эпистазе проявление гипостатичного гена (В, b) подавляется доминантным эпистатичным геном. Расщепление  -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12:3:1, 13:3, 7:6:3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ецессивный эпистаз — это подавление рецессивным аллелем эпистатичного гена аллелей гипостатичного гена.  Расщепление  -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9:3:4, 9:7, 13:3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&amp;Kcy;&amp;acy;&amp;rcy;&amp;tcy;&amp;icy;&amp;ncy;&amp;kcy;&amp;acy; &amp;scy;&amp;pcy;&amp;rcy;&amp;acy;&amp;vcy;&amp;acy; &amp;icy;&amp;lcy;&amp;icy; &amp;scy;&amp;lcy;&amp;iecy;&amp;vcy;&amp;acy; &amp;ocy;&amp;tcy; &amp;tcy;&amp;iecy;&amp;kcy;&amp;scy;&amp;tcy;&amp;acy;&amp;IEcy;&amp;scy;&amp;lcy;&amp;icy; &amp;vcy;&amp;ycy; &amp;khcy;&amp;ocy;&amp;tcy;&amp;icy;."/>
          <p:cNvPicPr/>
          <p:nvPr/>
        </p:nvPicPr>
        <p:blipFill>
          <a:blip r:embed="rId1"/>
          <a:stretch/>
        </p:blipFill>
        <p:spPr>
          <a:xfrm>
            <a:off x="7740720" y="260280"/>
            <a:ext cx="9126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Масти лошадей: вороная, рыжая и серая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1" name="Picture 3" descr="C:\Users\Public\Pictures\Sample Pictures\0_86c98_da8f6a_XL.jpg"/>
          <p:cNvPicPr/>
          <p:nvPr/>
        </p:nvPicPr>
        <p:blipFill>
          <a:blip r:embed="rId1"/>
          <a:stretch/>
        </p:blipFill>
        <p:spPr>
          <a:xfrm>
            <a:off x="539640" y="148428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Public\Pictures\Sample Pictures\79550372_3551389_9a_21.jpg"/>
          <p:cNvPicPr/>
          <p:nvPr/>
        </p:nvPicPr>
        <p:blipFill>
          <a:blip r:embed="rId2"/>
          <a:stretch/>
        </p:blipFill>
        <p:spPr>
          <a:xfrm>
            <a:off x="5148360" y="981000"/>
            <a:ext cx="3165480" cy="2762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Users\Public\Pictures\Sample Pictures\2599843.jpg"/>
          <p:cNvPicPr/>
          <p:nvPr/>
        </p:nvPicPr>
        <p:blipFill>
          <a:blip r:embed="rId3"/>
          <a:stretch/>
        </p:blipFill>
        <p:spPr>
          <a:xfrm>
            <a:off x="4284720" y="3573360"/>
            <a:ext cx="3944880" cy="2959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&amp;Kcy;&amp;acy;&amp;rcy;&amp;tcy;&amp;icy;&amp;ncy;&amp;kcy;&amp;acy; &amp;scy;&amp;pcy;&amp;rcy;&amp;acy;&amp;vcy;&amp;acy; &amp;icy;&amp;lcy;&amp;icy; &amp;scy;&amp;lcy;&amp;iecy;&amp;vcy;&amp;acy; &amp;ocy;&amp;tcy; &amp;tcy;&amp;iecy;&amp;kcy;&amp;scy;&amp;tcy;&amp;acy;&amp;IEcy;&amp;scy;&amp;lcy;&amp;icy; &amp;vcy;&amp;ycy; &amp;khcy;&amp;ocy;&amp;tcy;&amp;icy;."/>
          <p:cNvPicPr/>
          <p:nvPr/>
        </p:nvPicPr>
        <p:blipFill>
          <a:blip r:embed="rId4"/>
          <a:stretch/>
        </p:blipFill>
        <p:spPr>
          <a:xfrm>
            <a:off x="468360" y="4724280"/>
            <a:ext cx="9126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260280"/>
          <a:ext cx="8218440" cy="6305760"/>
        </p:xfrm>
        <a:graphic>
          <a:graphicData uri="http://schemas.openxmlformats.org/drawingml/2006/table">
            <a:tbl>
              <a:tblPr/>
              <a:tblGrid>
                <a:gridCol w="1727280"/>
                <a:gridCol w="2317680"/>
                <a:gridCol w="1614600"/>
                <a:gridCol w="2558880"/>
              </a:tblGrid>
              <a:tr h="14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взаимодействия ген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е расщепление признаков по фенотипу (по генотипу 9:3:3:1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490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лементар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о вид взаимодействия неаллельных генов, доминантные аллели кото­рых при совместном сочетании обусловливают новое  проявление признаков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6:1,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3:4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7,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3:3: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 тыкв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аска зерен у рж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аска венчика у душистого горош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глаз у дрозофил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582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мер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неаллельных множественных генов, степень проявления признака зависит от количества генов. Полимерные гены обозначаются одинаковыми буквами, а аллели одного локуса имеют одинаковый нижний индекс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умулятивна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мулятивна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4:6:4: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зерна пшениц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кожи челове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768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пистаз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неаллельных генов, при котором один из них подавляется другим.</a:t>
                      </a:r>
                      <a:br>
                        <a:rPr sz="1100"/>
                      </a:b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авляющий ген называется эпистатичным (супресором), подавляемый — гипостатичным. Эпистаз может быть доминантным и рецессивны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инантный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3:1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:3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:6: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цессивный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3: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ть лошад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ку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мыш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pic>
        <p:nvPicPr>
          <p:cNvPr id="137" name="Picture 8" descr="&amp;Kcy;&amp;acy;&amp;rcy;&amp;tcy;&amp;icy;&amp;ncy;&amp;kcy;&amp;acy; &amp;scy;&amp;pcy;&amp;rcy;&amp;acy;&amp;vcy;&amp;acy; &amp;icy;&amp;lcy;&amp;icy; &amp;scy;&amp;lcy;&amp;iecy;&amp;vcy;&amp;acy; &amp;ocy;&amp;tcy; &amp;tcy;&amp;iecy;&amp;kcy;&amp;scy;&amp;tcy;&amp;acy;&amp;IEcy;&amp;scy;&amp;lcy;&amp;icy; &amp;vcy;&amp;ycy; &amp;khcy;&amp;ocy;&amp;tcy;&amp;icy;."/>
          <p:cNvPicPr/>
          <p:nvPr/>
        </p:nvPicPr>
        <p:blipFill>
          <a:blip r:embed="rId1"/>
          <a:stretch/>
        </p:blipFill>
        <p:spPr>
          <a:xfrm>
            <a:off x="179280" y="5300640"/>
            <a:ext cx="9129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Теперь мы можем легко решить задачу, которая была озвучена в начале урока: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 божьих коровок с красными спинками были дети с оранжевыми спинками, которые скрестились между собой. Среди внуков наблюдалось расщепление: 175 оранжевых, 119 красных и 21 жёлтая. Как наследуется окраска спинки у божьих коровок? Какие генотипы у всех описанных поколени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&amp;Acy;&amp;ncy;&amp;icy;&amp;mcy;&amp;acy;&amp;shcy;&amp;kcy;&amp;icy;, &amp;kcy;&amp;acy;&amp;rcy;&amp;tcy;&amp;icy;&amp;ncy;&amp;kcy;&amp;acy; 24238"/>
          <p:cNvPicPr/>
          <p:nvPr/>
        </p:nvPicPr>
        <p:blipFill>
          <a:blip r:embed="rId1"/>
          <a:stretch/>
        </p:blipFill>
        <p:spPr>
          <a:xfrm>
            <a:off x="7020000" y="333360"/>
            <a:ext cx="24256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aramond"/>
              </a:rPr>
              <a:t>Соедините понятие, признак и возможное расщепление по фенотипу.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Garamond"/>
              </a:rPr>
              <a:t>Понятия: </a:t>
            </a:r>
            <a:r>
              <a:rPr b="1" lang="ru-RU" sz="1900" spc="-1" strike="noStrike">
                <a:solidFill>
                  <a:srgbClr val="ff3300"/>
                </a:solidFill>
                <a:latin typeface="Garamond"/>
              </a:rPr>
              <a:t>комплементарность, эпистаз, полимерия</a:t>
            </a:r>
            <a:br>
              <a:rPr sz="38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950101"/>
                </a:solidFill>
                <a:latin typeface="Arial"/>
              </a:rPr>
              <a:t>9:6:1, 9:3:4,9: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99"/>
                </a:solidFill>
                <a:latin typeface="Arial"/>
              </a:rPr>
              <a:t>1:4:6:4: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950101"/>
                </a:solidFill>
                <a:latin typeface="Arial"/>
              </a:rPr>
              <a:t>12:3:1,13:3,7:6: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99"/>
                </a:solidFill>
                <a:latin typeface="Arial"/>
              </a:rPr>
              <a:t>Это вид взаимодействия неаллельных генов, доминантные аллели кото­рых при совместном сочетании обусловливают новое  проявление признак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950101"/>
                </a:solidFill>
                <a:latin typeface="Arial"/>
              </a:rPr>
              <a:t>Взаимодействие неаллельных множественных генов, степень проявления признака зависит от количества генов. Полимерные гены обозначаются одинаковыми буквами, а аллели одного локуса имеют одинаковый нижний индекс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99"/>
                </a:solidFill>
                <a:latin typeface="Arial"/>
              </a:rPr>
              <a:t>Взаимодействие неаллельных генов, при котором один из них подавляется другим.</a:t>
            </a:r>
            <a:br>
              <a:rPr sz="1900"/>
            </a:br>
            <a:r>
              <a:rPr b="0" lang="ru-RU" sz="1900" spc="-1" strike="noStrike">
                <a:solidFill>
                  <a:srgbClr val="003399"/>
                </a:solidFill>
                <a:latin typeface="Arial"/>
              </a:rPr>
              <a:t>Может быть доминантным и рецессивны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&amp;Acy;&amp;ncy;&amp;icy;&amp;mcy;&amp;acy;&amp;shcy;&amp;kcy;&amp;icy;, &amp;kcy;&amp;acy;&amp;rcy;&amp;tcy;&amp;icy;&amp;ncy;&amp;kcy;&amp;acy; 24238"/>
          <p:cNvPicPr/>
          <p:nvPr/>
        </p:nvPicPr>
        <p:blipFill>
          <a:blip r:embed="rId1"/>
          <a:stretch/>
        </p:blipFill>
        <p:spPr>
          <a:xfrm>
            <a:off x="7020000" y="333360"/>
            <a:ext cx="24256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Домашнее задание: решить задачи с опорой на параграф 10 учебника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Задача № 1: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 душистого горошка пурпурная окраска получается при наличии в генотипе доминантных аллелей двух разных не сцепленных друг с другом аутосомных генов. В отсутствии хотя бы одного из них формируется белая окраска цветов. При скрещивании растения, имеющего пурпурные цветы, с растением, имеющим белые цветы, 25% потомства имело пурпурные цветы. Их скрестили друг с другом. Какое теоретическое расщепление по фенотипу можно ожидать при этом скрещивании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Задача № 2: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ст человека контролируется несколькими парами несцепленных генов, которые взаимодействуют по типу полимерии. Если пренебречь факторами среды и условно ограничиться лишь тремя парами генов, то можно допустить, что в какой-то популяции самые низкорослые люди имею все рецессивные гены и рост 150 см, самые высокие – все доминантные гены и рост 180 см. Определите рост людей, гетерозиготных по всем трем парам генов, контролирующих рост человек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Constantia"/>
              </a:rPr>
              <a:t>Австрийский учёный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Constantia"/>
              </a:rPr>
              <a:t> Иоганн Грегор Мендель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У этого господина был странный склад ума. Его почему-то тянуло к математизации своих наблюдений и к выведению закономерностей не из описания конкретного наблюдаемого процесса, а из абстрактных математических выкладок. 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спех его работы объясняется тем, что он обладает двумя существенными качествами, необходимыми для учёного: способностью задавать природе нужный вопрос и способностью правильно истолковывать ответ природы. В дополнение к этому он был исключительно трудолюбив и аккуратен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&amp;Mcy;&amp;iecy;&amp;ncy;&amp;dcy;&amp;iecy;&amp;lcy;&amp;softcy; &amp;Gcy;&amp;rcy;&amp;iecy;&amp;gcy;&amp;ocy;&amp;rcy; - &amp;bcy;&amp;icy;&amp;ocy;&amp;gcy;&amp;rcy;&amp;acy;&amp;fcy;&amp;icy;&amp;yacy;, &amp;fcy;&amp;acy;&amp;kcy;&amp;tcy;&amp;ycy; &amp;icy;&amp;zcy; &amp;zhcy;&amp;icy;&amp;zcy;&amp;ncy;&amp;icy;, &amp;fcy;&amp;ocy;&amp;tcy;&amp;ocy;&amp;gcy;&amp;rcy;&amp;acy;&amp;fcy;&amp;icy;&amp;icy;, &amp;scy;&amp;pcy;&amp;rcy;&amp;acy;&amp;vcy;&amp;ocy;&amp;chcy;&amp;ncy;&amp;acy;&amp;yacy; &amp;icy;&amp;ncy;&amp;fcy;&amp;ocy;&amp;rcy;&amp;mcy;&amp;acy;&amp;tscy;&amp;icy;&amp;yacy;."/>
          <p:cNvPicPr/>
          <p:nvPr/>
        </p:nvPicPr>
        <p:blipFill>
          <a:blip r:embed="rId1"/>
          <a:stretch/>
        </p:blipFill>
        <p:spPr>
          <a:xfrm>
            <a:off x="4643280" y="1557360"/>
            <a:ext cx="3946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нтернет ресурсы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http://yandex.ru/images/search?img_url=http%3A%2F%2Fs12.rimg.info%2Feb5927101a4fd997bfc7268e5a967fc8.gif&amp;uinfo=sw-1366-sh-768-ww-1350-wh-651-pd-1-wp-16x9_1366x768&amp;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http://anyamashka.ru/photo/animashki/spasibo/animacija_kartinka_spasibo_za_vnimanie/44-0-30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http://pedsovet.su/load/83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Влияние неаллельных генов. Режим доступа: [http://medbiol.ru/medbiol/genetic_sk/00068213.ht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Деятельностный подход как основа педагогических технологий в обучении. Режим доступа: [http://www.nbuv.gov.ua/portal/soc_gum/pspo/2005_7_1/doc_pdf/Kolyada.pdf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Методические рекомендации по организации урока в рамках системно-деятельностного подхода. Режим доступа:[http://omczo.org/publ/393-1-0-2468]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haroni"/>
                <a:ea typeface="Aharoni"/>
              </a:rPr>
              <a:t>http://interneturok.ru/ru/school/biology/10-klass/undefined-0/vzaimodeystvie-neallelnyh-gen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9" name="Picture 5" descr="&amp;Acy;&amp;ncy;&amp;icy;&amp;mcy;&amp;acy;&amp;tscy;&amp;icy;&amp;yacy;-&amp;kcy;&amp;acy;&amp;rcy;&amp;tcy;&amp;icy;&amp;ncy;&amp;kcy;&amp;acy; &amp;Scy;&amp;pcy;&amp;acy;&amp;scy;&amp;icy;&amp;bcy;&amp;ocy; &amp;zcy;&amp;acy; &amp;vcy;&amp;ncy;&amp;icy;&amp;mcy;&amp;acy;&amp;ncy;&amp;icy;&amp;iecy;"/>
          <p:cNvPicPr/>
          <p:nvPr/>
        </p:nvPicPr>
        <p:blipFill>
          <a:blip r:embed="rId1"/>
          <a:stretch/>
        </p:blipFill>
        <p:spPr>
          <a:xfrm>
            <a:off x="1692360" y="181080"/>
            <a:ext cx="56163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aramond"/>
              </a:rPr>
              <a:t>Схема для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aramond"/>
              </a:rPr>
              <a:t> актуализации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aramond"/>
              </a:rPr>
              <a:t> знаний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2" name="Picture 4" descr="129-1"/>
          <p:cNvPicPr/>
          <p:nvPr/>
        </p:nvPicPr>
        <p:blipFill>
          <a:blip r:embed="rId1"/>
          <a:stretch/>
        </p:blipFill>
        <p:spPr>
          <a:xfrm>
            <a:off x="2556000" y="0"/>
            <a:ext cx="57448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верим зна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колько типов гамет образует родительское растение с желтыми гладкими семенами? С зелеными морщинистыми семенами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акова вероятность (%) появления в результате первого скрещивания растений F1 с желтыми семенами?  С зелеными семенами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акова вероятность (%) появления в результате первого скрещивания растений F1 с желтыми гладкими семенами?  С желтыми морщинистыми? С зелеными гладкими?  С зелеными морщинистыми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колько разных генотипов может быть среди гибридов первого поколения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колько разных фенотипов может быть среди гибридов первого поколения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колько типов гамет образует растение F1 с желтыми гладкими семенами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акова вероятность (%) появления в результате самоопыления растений F2 с желтыми семенами?  С зелеными семенами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акова вероятность (%) появления в результате скрещивания растений F2 с желтыми гладкими семенами?  С желтыми морщинистыми?  С зелеными гладкими? С зелеными морщинистыми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колько разных генотипов может быть среди гибридов второго поколения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колько разных фенотипов может быть среди гибридов второго поколения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ак можно сформулировать 1, 2, 3 законы Менделя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&amp;Kcy;&amp;acy;&amp;rcy;&amp;tcy;&amp;icy;&amp;ncy;&amp;kcy;&amp;acy; &amp;scy;&amp;pcy;&amp;rcy;&amp;acy;&amp;vcy;&amp;acy; &amp;icy;&amp;lcy;&amp;icy; &amp;scy;&amp;lcy;&amp;iecy;&amp;vcy;&amp;acy; &amp;ocy;&amp;tcy; &amp;tcy;&amp;iecy;&amp;kcy;&amp;scy;&amp;tcy;&amp;acy;&amp;IEcy;&amp;scy;&amp;lcy;&amp;icy; &amp;vcy;&amp;ycy; &amp;khcy;&amp;ocy;&amp;tcy;&amp;icy;.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12000" y="189000"/>
            <a:ext cx="9129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амопроверк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колько типов гамет образует родительское растение с желтыми гладкими семенами?(1) С зелеными морщинистыми семенами? – 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ова вероятность (%) появления в результате первого скрещивания растений F1 с желтыми семенами? 100. С зелеными семенами? 0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ова вероятность (%) появления в результате первого скрещивания растений F1 с желтыми гладкими семенами? 100. С желтыми морщинистыми? 0. С зелеными гладкими? 0. С зелеными морщинистыми? 0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колько разных генотипов может быть среди гибридов первого поколения? 1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колько разных фенотипов может быть среди гибридов первого поколения? 1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колько типов гамет образует растение F1 с желтыми гладкими семенами? 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ова вероятность (%) появления в результате самоопыления растений F2 с желтыми семенами? 75. С зелеными семенами? – 25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ова вероятность (%) появления в результате скрещивания растений F2 с желтыми гладкими семенами? 56, 25. С желтыми морщинистыми? 18,75. С зелеными гладкими?18,75. С зелеными морщинистыми? 6,25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колько разных генотипов может быть среди гибридов второго поколения? – 9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колько разных фенотипов может быть среди гибридов второго поколения? – 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&amp;Kcy;&amp;acy;&amp;rcy;&amp;tcy;&amp;icy;&amp;ncy;&amp;kcy;&amp;acy; &amp;scy;&amp;pcy;&amp;rcy;&amp;acy;&amp;vcy;&amp;acy; &amp;icy;&amp;lcy;&amp;icy; &amp;scy;&amp;lcy;&amp;iecy;&amp;vcy;&amp;acy; &amp;ocy;&amp;tcy; &amp;tcy;&amp;iecy;&amp;kcy;&amp;scy;&amp;tcy;&amp;acy;&amp;IEcy;&amp;scy;&amp;lcy;&amp;icy; &amp;vcy;&amp;ycy; &amp;khcy;&amp;ocy;&amp;tcy;&amp;icy;.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260280"/>
            <a:ext cx="9129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должим проверку знаний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11. Закончите предложение.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цепленными называются гены, находящиеся в одной ______________ и наследуемые __________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12. Ниже приведены открытия, которые принадлежат Г. Менделю и Т. Моргану. Распределите нижеперечисленные открытия в соответствии с их принадлежностью ученым: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) установлена независимость наследственных признаков;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б) установлено, что носителями наследственных признаков являются хромосомы;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) сформулировано положение о сцеплении генов в хромосоме;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г) выявлены количественные закономерности наследования признаков;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) установлен характер проявления признака;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) установлен механизм определения пола у животных (самцы и самки различаются по набору хромосом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еши задачу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 божьих коровок с красными спинками были дети с оранжевыми спинками, которые скрестились между собой. Среди внуков наблюдалось расщепление: 175 оранжевых, 119 красных и 21 жёлтая. Как наследуется окраска спинки у божьих коровок? Какие генотипы у всех описанных поколени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&amp;Acy;&amp;ncy;&amp;icy;&amp;mcy;&amp;acy;&amp;shcy;&amp;kcy;&amp;icy;, &amp;kcy;&amp;acy;&amp;rcy;&amp;tcy;&amp;icy;&amp;ncy;&amp;kcy;&amp;acy; 24238"/>
          <p:cNvPicPr/>
          <p:nvPr/>
        </p:nvPicPr>
        <p:blipFill>
          <a:blip r:embed="rId1"/>
          <a:stretch/>
        </p:blipFill>
        <p:spPr>
          <a:xfrm>
            <a:off x="6286680" y="-2430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абота в группах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Picture 5" descr="ris09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476360" y="1052640"/>
            <a:ext cx="1898640" cy="280800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pic>
        <p:nvPicPr>
          <p:cNvPr id="106" name="Picture 9" descr="C:\Users\Public\Pictures\Sample Pictures\w-crop-644x416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00720" y="1197000"/>
            <a:ext cx="3430440" cy="221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Users\Public\Pictures\Sample Pictures\2599843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564000" y="3645000"/>
            <a:ext cx="394488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римером комплементарного взаимодействия генов является  наследование формы плодов у тыкв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Picture 5" descr="ris097"/>
          <p:cNvPicPr/>
          <p:nvPr/>
        </p:nvPicPr>
        <p:blipFill>
          <a:blip r:embed="rId1"/>
          <a:stretch/>
        </p:blipFill>
        <p:spPr>
          <a:xfrm>
            <a:off x="2195640" y="1052640"/>
            <a:ext cx="4176720" cy="5078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&amp;Kcy;&amp;acy;&amp;rcy;&amp;tcy;&amp;icy;&amp;ncy;&amp;kcy;&amp;acy; &amp;scy;&amp;pcy;&amp;rcy;&amp;acy;&amp;vcy;&amp;acy; &amp;icy;&amp;lcy;&amp;icy; &amp;scy;&amp;lcy;&amp;iecy;&amp;vcy;&amp;acy; &amp;ocy;&amp;tcy; &amp;tcy;&amp;iecy;&amp;kcy;&amp;scy;&amp;tcy;&amp;acy;&amp;IEcy;&amp;scy;&amp;lcy;&amp;icy; &amp;vcy;&amp;ycy; &amp;khcy;&amp;ocy;&amp;tcy;&amp;icy;.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55040" y="4724280"/>
            <a:ext cx="10350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19:07:11Z</dcterms:created>
  <dc:creator>lenovo Y550</dc:creator>
  <dc:description/>
  <dc:language>en-US</dc:language>
  <cp:lastModifiedBy>Ученик</cp:lastModifiedBy>
  <dcterms:modified xsi:type="dcterms:W3CDTF">2015-03-23T08:41:36Z</dcterms:modified>
  <cp:revision>20</cp:revision>
  <dc:subject/>
  <dc:title>Генетические закономерности, открытые Г. Менделем. Моногибридное и дигибридное скрещивание. Взаимодействие генов.11 класс</dc:title>
</cp:coreProperties>
</file>